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96E-7AFF-4EC7-8D0B-6C70C48F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797-3088-439C-B4F7-2882F54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936D9-F997-4593-9842-6C5E304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1F8C-8694-4BDE-B21A-7B68E98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CDABE-9A29-416B-AD27-9D49B4A4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86624-BEF3-45BE-AA3D-579D210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62ACC-2957-4219-A398-81EBDAA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0B900-64A4-42C7-99F2-3D9DFC4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C41D4-7173-42F1-BCF7-5AC4C5D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6C972-6C35-479D-91FC-A1707988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23D6A-032E-48F4-B7A6-051BAAD1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50DEB-06A0-49D5-8CF6-BE840B85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7F8-A5F5-4C86-8583-5BD8C916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DB68C-2915-419C-AF6F-5A86BF22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DB3A-67C8-4755-B891-0B61FED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A8942-89FA-45A4-A5E1-22F4620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399A3-85E5-4572-94C4-8B54D8A1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838D9-7130-49AF-B516-EC124885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8896E-4BD8-4CA2-8D0C-BD8FB6B4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D6D21-8FC7-4F67-9C00-85736B49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B5879-B292-41FC-9D3F-911DA85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F2163-60DF-40F7-9257-7D52E98D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02F6C-E243-45E8-BCF8-F2E2AFFB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242-5EB2-4D38-AD2B-9260BE7E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711B6-3348-46CC-BB31-538B8A46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1F8BB-F209-43FF-ABB7-3FD7B71C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B0F4E-12C2-421A-8866-2A88FCD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27662-9CB4-48A9-9BCD-7F73219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FAC15-36FC-411A-BDE1-F9BDB99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6F1CD-2A64-4D81-A1ED-C987CB81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8D11F-FCD2-49B3-A590-69E1916D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5A120-5C0C-4136-B0D0-2EDDCF4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5A12-5A3D-4DFD-9CEE-CD8BA76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E49A0-A2D5-4DF9-8643-4A19A2A5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D859-DEFC-4A56-95AD-DFD1B99C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1AC2F-1F6B-4D94-A545-38F79BB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43BA8-6FE8-4753-9398-C7E591A0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476AE-4F1E-45C0-9ADB-F73DEDED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C9D54-0D0D-4D6F-AF1E-6933B72F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9B64-2EC3-4109-9FA1-648BA71E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07231-D5C7-40D6-B6E7-5D7FD64B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94A4D-D42A-42C9-99A1-B2B7BC2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581C2-8756-4D3F-935B-D77F34D1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77184-6A55-489F-AEB8-B82B8AED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B9808-B97B-4549-A3CB-0EF8682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6905-2113-4265-8BDD-F5C9988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6FC70-226D-445B-A6F9-912579A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D2D43-0FB1-488A-B952-15E79CD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ADAEA-9F16-4918-8FE0-95E1105E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007C7-A143-4892-A9FB-9E2E7512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451D7-9FCB-44E2-A2B9-33B83CF7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39540-6DE5-4B07-8511-D489E032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CE2C8-5DDF-4FFA-A9DF-0FDD4F7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9FCB2-AA34-4760-A774-883023B4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4941D-28B3-4D5E-B366-00BC581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A7860-AF63-4A2E-85BA-5202F42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30D3-E637-408D-BD2E-F9F9F458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9539E-6FD9-435D-B6E9-93E41399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E44D9-6057-447D-AAF1-A8499A2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834F0-67CA-43C4-A764-F91F2FD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452A6-494C-477C-A8B3-12A60CA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DE169-B723-4658-94C5-498D87A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502F7-5805-4C14-A216-C291C43A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E1401-F89F-4E3B-BD00-C78DC982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B4852-639B-4CD5-9551-63ADF5B9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275C7-A91B-477D-B511-92971BBE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C21BC-5D88-4E95-B74F-92D3575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17B3-782F-4066-BE1A-1E77B00A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92EBA-C871-4BBE-85E0-534ED3A8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C36F6-7AAD-4EAC-96D9-A42C16E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8BAD2-C05F-4D8D-9861-9467E8EB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368EF-2B1F-4E9D-9448-BE8A4B8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A6815-B842-41AB-A063-0CFD9E3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5D4E1-26DF-4559-997D-3233589A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8FB3B-FF5D-4CCE-9123-C54BA2E4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D1A66-0E84-4B70-ACA2-A72D09CE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A65FF-D366-420B-A687-70506C73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E2851-8035-4825-A36C-8E1446B0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C50-7E5F-4D62-9DAA-A2D35CCD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969E7-8A1D-4D7C-94C4-50F9FED1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9D897-60C7-4ED8-AE89-9C754D1B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CA23E-737D-4EFA-BBB0-67CF4625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6E265-95C8-476B-AA54-8428573F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BAB57-9264-4C6B-A49D-0F041C8F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A439-D1C0-4795-955D-E531A9E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B003F-15BC-41EF-BDC4-C205A724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CE85F-BEFC-42CB-8EEF-678BD09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77962-50E2-4490-BDB9-C6D0318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DAFBE-03A8-4A2D-8F5B-60FAA07B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A331-912B-4F53-AA86-A531443D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773D2-46DD-4624-A273-BE5C0DF6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2A118-AF91-4701-95CE-C4908CBC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2D2BB-D9B0-41C7-877C-D2C86782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8A3C4-CC07-4D84-855C-1325D18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ECE41-1F01-4B8F-9BF1-05B7243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13603-F18C-4278-AB84-5826BC3B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EB6E3-F7A2-49E5-A49A-22234679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9C9F4-B8D7-46D2-B5E0-CE6E0AA3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7A586-7106-4B9B-81A8-5F6E1E4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6EC51-23D1-4BEF-A46F-4DDB481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8093-1F09-44E1-8809-C9E70048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DF7C6-EF4E-4B67-AA1A-72E2A917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4635F-A655-49E3-A43A-20A17B15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D232F-4F5D-42CC-8E80-4BF51AE2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380AB-3AB3-44B0-AFE8-B837F758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85E7C-C18B-4390-9C1B-4FBCE105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F4F5E-6312-4ABF-A823-44534FA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8D4C5-E7C4-4CBB-BB55-4C6884D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A597E-F7F3-490A-8C44-4F4C320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AC5BF-4F78-4C3D-B2E6-4A2E63C2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59B5F-679B-478B-9C14-B22F12E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9CE-F371-4323-87CC-C1D88DF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F590-5540-45C6-AEBD-AF9B8EE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6E456-760C-4B59-8679-2C36BD8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0E13D-53AA-4822-8FA8-D09FBC55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5C7AF-2DC8-4BE4-A9FC-7E28CAE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34A4F-6428-4B28-B4A3-8FEC0DAA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6B3CE-2955-4741-9886-15F6D4CA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D5E96-C7C4-4345-8A07-A925137B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A8661-F1EB-472B-804D-3BA44121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0CC73-6519-4482-BAEF-3F2EF92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F64E2-C826-40FC-BFF9-C8B33468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AFC91-5F4F-4B89-816A-39EA859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582A-3B98-40A6-A07A-6CF64427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61490-0D22-4C4D-AB78-F028517C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12F16-53C4-4AE5-986E-93A40CB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D47FD-D11D-45F7-A6A4-1849DD3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56E6A-D881-423C-8466-DFC2C1D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6E090-7FA2-40DF-B5A8-D9B590DA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12E34-7F20-4F65-8E14-5DEB91C8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B0CF6-AACD-4B6A-A3A8-808612CE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4573A-2DEF-466F-83EE-65D92420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AB4D8-F347-42FD-AD46-AE64717B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8A5DE-3DFC-4929-A744-6A196247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1099-C786-4433-9B5C-C9D3E52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015D6-0654-4A0D-8070-97B8DB4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6C050-B84D-4EFC-9178-3D14A676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29F09-A29F-45DA-B71C-7A39EA6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DA03D-1981-472F-B323-33513E5C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61E58-4D66-4BFE-BDE6-626B29E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6D23A-DE6F-401E-83D8-6D13B45C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6B7A4-820E-45AA-9D19-0B0E98F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CC2EA-6072-42B9-9DF6-32EB26C6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07B12-7DB5-410D-A42F-EA2AE6F6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EDEDC-826E-4F8D-A7C9-D681ED97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6427-4A85-4EB5-AE64-22748E2F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DB039-8D78-4682-A0D7-B79F837B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37A0E-5433-4AD7-A890-1AB39B6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2E375-2A9C-4F3F-AB45-D559012C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306D1C-16CD-4378-B559-E1F0551A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77FD2-8FDB-470E-B94E-B535512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7758E-2EB0-4503-95D6-2FADEFF0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FEA1B-1FD4-4D0E-9D84-11BB886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62E40-2850-4A8F-AC17-256E132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F2F3E-CA9A-47F4-B3C0-0D81B1B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E2845-1F0E-4B20-9D73-2002399B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2FD3-56B4-4C68-B17E-BFA4B925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4DC17-F4B9-441C-8920-65839911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9664-6030-4899-89D3-95AD0A3A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4A52-9308-4AA7-AF82-95D39331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90F3-981A-483C-885E-C9DA579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2334-9B33-4D5C-89B4-3CC15E7E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6AC9-AFB2-4E97-A3A6-165A2731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775-F657-480E-B561-E7A8B59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2427-B85C-4119-8301-FE81BC70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16D2-35A1-4E3A-9312-0CF9D4A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20CB-0B9A-466F-9085-58065EB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BBC2-8915-4B0B-8611-B4EFF9B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0A33-C88B-4558-8CFC-91BBDBC8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7975-B531-46F2-84F0-F3ECE7C8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6E9B-7FF7-4716-ADDC-C434D209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C4A94-7D47-4DC2-B42B-406492AB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15F93-522E-41F6-90D3-F9214E5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70C30-813A-4D76-BBCF-3251BBB8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887-3553-4DE6-A72D-0D4D69B7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F6F7B-D7E8-4578-9780-4521C7FE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7F8AC-A247-47EF-9A5E-E381E8C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1E2C7-DEA1-4DDB-B4CF-B73D62B1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C7C26-52E8-44C1-9F19-5B00A09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71B68-E3B8-4C47-930F-9A8C8E9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08F43-B663-4997-A1A8-46E1916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1D4B9-F16E-49BF-A91F-01920D5E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82F4F-AC35-4FCE-B5DB-FBE46B6F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C2F8C-86C4-413E-85DA-A6BBCBB3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AFE1-412F-42D7-B778-91548057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FEB-E0D9-4D83-B722-21C1A362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F047-CCD4-4FAE-8211-0FE032A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3FDC-338C-4515-B4F7-501B088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9430-7C89-4A25-B6B0-2E5D5D7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5438-4FCA-4087-8D35-2D167A9E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2FE3-3F5E-45E5-A2A6-8D29F31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01E7-38AF-4561-830D-68C55F6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34DA0-1724-4012-A305-009D14D2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12EB-FA18-49C5-B36F-549DBDF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9315-D6C6-4E63-96F3-64F370DE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93C9-5F31-4716-8EF3-2CE7A1EF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81C-C862-4E24-8D4C-4FADCBA8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9B9C-12CD-43D8-BBBB-D3F35E17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12E9-16F6-40C2-8F3A-21FE4940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081C-D2F4-412A-B367-D778F7D8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0220-7660-4770-AEA7-3B671CE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A767-F384-499B-9102-B10FE349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DC34-C371-4AC6-8223-DBA18B05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F29D-7295-4FA2-B3C8-892510C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07A9-BF99-455C-9B7A-9E4BC0F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24D6-0AEE-440C-B391-56AEAE8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19DB-3800-487A-A6E4-11F8BEA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F23-A75D-4A51-85A6-42549531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9A82-E08B-4928-B8EC-D73821D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5F62F-27BD-4D8F-B854-B3157035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04E2-F4C6-4666-8F5E-2461FF31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89BF5-4B8D-4504-ACB9-79E3DAAF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2C4F-D144-42A8-8443-E6503CAB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4148F-1B7C-4700-AF9D-D119C3EA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4A78-C4E0-4291-9F23-1EB8081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8622-44CD-4363-9364-23B3CB1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FC54-DA23-4C39-927B-69E9C11D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178B8-022E-4FE2-8CAD-E00B0795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ADC-7CFA-44D3-A848-D746456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531CA-C825-4867-8968-5ED0E16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8EE77-A4E1-4A5C-9F43-A013DD1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FE1F-2B5F-4673-B953-7FFD65B1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2B01-41F9-4269-9304-9924D2D7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0365-F010-40E0-88D2-A321BEB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0A12F-786C-4055-A15B-2AE1A866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F0D2-0088-4725-AF6A-CD8E23AD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FAB8-C1AF-48AF-97D3-91B880D3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794C-EA75-4D98-8E76-DDEEA5E3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8C0B-11C1-4746-A9B0-E1A8A4C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F46-B80A-43E9-BF62-14C02E05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B152-4933-49D6-8922-95385D9D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D843-BC23-461A-8445-C4D5E70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73606-57BA-4574-8E10-1340CDC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55F85-88EA-4944-ACBA-728A5B87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2336-58A0-42E5-B558-596D6DD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10EA-D653-4125-86DB-626DBDF3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D154D-A155-4FE7-8713-BB156870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F1D06-B737-4195-BBF7-0BB3516F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85F40-9049-46A3-A3E9-5D02C986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35C4-9188-4247-8DB5-10064359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0723-090A-4606-AFC4-6DFF332CE1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0377-7266-43C7-956E-F83A7EF16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F334-54D0-4D2A-AE21-758097D8E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A4BB-348B-4A0B-8B7D-ECBEF76092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2CDD-ADD5-4E29-9A95-5C0DC206F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4F00-E925-4B96-9D01-4D5C68C5B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9722-D000-44CC-B956-563F90817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3822-F459-4933-B0DF-8E288FA45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73F-38A5-4BE8-865B-92AD54BFE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0ECA-F695-4997-8EA7-1BCAC4646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C996-3D91-4B99-9F8E-14FA53F05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8DD-F206-469A-8B03-A941321C83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EDD4-3093-472A-B75C-45D4C9320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002-B598-427E-A7D3-CB604490C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E0E0-E432-482B-B1EF-738409CA3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D49-BBDD-4117-9008-C254D294A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D2E-F40E-458D-8FC0-59787AEC30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A74-EFCE-4316-BE15-4DE162046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3A45-8CDA-46AB-994C-462805ACF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2476-8842-48D7-995A-B6A81C094A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08A3-6C00-46BB-A25C-116B9662A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E5B4-DA6F-4DEC-830C-86115578F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37D6-932E-4EAF-AE29-0CC63789B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7069-D59E-492B-9D8A-E75786D60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DC4-5D3B-436D-8CD7-6D867A3E72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E3C-94C3-4098-8D24-DC928AE6E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D0B-8B57-4F7C-9611-41D005011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3AD2-16B7-4E81-9B4F-061AF953D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5BC3-F9CD-47A4-AC0B-AAA010610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221-A391-4561-8BB9-70943C04E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8BC6-28BA-4707-8CC1-E61C9C2A0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D46-BE55-40F4-BC60-270FA3A0C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797-59A3-4181-854F-502B4233ED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9EA8-CB90-4E45-8EEB-BB3072B82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C98-B364-49CD-8494-760E6143D2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8F2-730E-412A-8DE1-55D036BD7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AF6E-599C-48B9-B78F-929EDBD99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96AF-855B-42BC-9807-795FCD9A8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2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094409"/>
          <p:cNvPicPr/>
          <p:nvPr/>
        </p:nvPicPr>
        <p:blipFill>
          <a:blip r:embed="rId1"/>
          <a:stretch/>
        </p:blipFill>
        <p:spPr>
          <a:xfrm>
            <a:off x="210960" y="762120"/>
            <a:ext cx="872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9633" descr=""/>
          <p:cNvPicPr/>
          <p:nvPr/>
        </p:nvPicPr>
        <p:blipFill>
          <a:blip r:embed="rId1"/>
          <a:stretch/>
        </p:blipFill>
        <p:spPr>
          <a:xfrm>
            <a:off x="237960" y="1795320"/>
            <a:ext cx="8668080" cy="3267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4140360" y="220500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7308720" y="220500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4932360" y="258444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6516720" y="257508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7812000" y="2593800"/>
            <a:ext cx="35892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68609" descr=""/>
          <p:cNvPicPr/>
          <p:nvPr/>
        </p:nvPicPr>
        <p:blipFill>
          <a:blip r:embed="rId1"/>
          <a:stretch/>
        </p:blipFill>
        <p:spPr>
          <a:xfrm>
            <a:off x="476280" y="1709640"/>
            <a:ext cx="8191440" cy="3438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4643280" y="3611520"/>
            <a:ext cx="865440" cy="279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6877080" y="361620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4643280" y="4014720"/>
            <a:ext cx="865440" cy="279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6804000" y="4019400"/>
            <a:ext cx="576360" cy="279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4643280" y="4427640"/>
            <a:ext cx="865440" cy="27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6804000" y="443700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8"/>
          <a:stretch/>
        </p:blipFill>
        <p:spPr>
          <a:xfrm>
            <a:off x="7020000" y="4807080"/>
            <a:ext cx="16556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67585" descr=""/>
          <p:cNvPicPr/>
          <p:nvPr/>
        </p:nvPicPr>
        <p:blipFill>
          <a:blip r:embed="rId1"/>
          <a:stretch/>
        </p:blipFill>
        <p:spPr>
          <a:xfrm>
            <a:off x="909720" y="1590840"/>
            <a:ext cx="7324560" cy="3676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7020000" y="371628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3419640" y="409572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5148360" y="409572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6659640" y="414036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8"/>
          <a:stretch/>
        </p:blipFill>
        <p:spPr>
          <a:xfrm>
            <a:off x="2484360" y="451800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9"/>
          <a:stretch/>
        </p:blipFill>
        <p:spPr>
          <a:xfrm>
            <a:off x="2484360" y="4932360"/>
            <a:ext cx="3589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66561" descr=""/>
          <p:cNvPicPr/>
          <p:nvPr/>
        </p:nvPicPr>
        <p:blipFill>
          <a:blip r:embed="rId1"/>
          <a:stretch/>
        </p:blipFill>
        <p:spPr>
          <a:xfrm>
            <a:off x="523800" y="758880"/>
            <a:ext cx="8096400" cy="5838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443640" y="351000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6563" descr=""/>
          <p:cNvPicPr/>
          <p:nvPr/>
        </p:nvPicPr>
        <p:blipFill>
          <a:blip r:embed="rId3"/>
          <a:stretch/>
        </p:blipFill>
        <p:spPr>
          <a:xfrm>
            <a:off x="2378160" y="1544760"/>
            <a:ext cx="3990960" cy="22860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66564" descr=""/>
          <p:cNvPicPr/>
          <p:nvPr/>
        </p:nvPicPr>
        <p:blipFill>
          <a:blip r:embed="rId4"/>
          <a:stretch/>
        </p:blipFill>
        <p:spPr>
          <a:xfrm>
            <a:off x="1635120" y="4321080"/>
            <a:ext cx="5457960" cy="2266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7093080" y="6289560"/>
            <a:ext cx="1800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37960" y="819000"/>
            <a:ext cx="8668080" cy="5220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3132000" y="121608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56360" y="125892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451640" y="123984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2987640" y="2060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093080" y="2060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3257640" y="24829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7740720" y="24829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3419640" y="2862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6877080" y="2862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5076720" y="3284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2340000" y="3716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3780000" y="4086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5560920" y="4086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5076720" y="45180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1908000" y="531972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9410" descr=""/>
          <p:cNvPicPr/>
          <p:nvPr/>
        </p:nvPicPr>
        <p:blipFill>
          <a:blip r:embed="rId1"/>
          <a:stretch/>
        </p:blipFill>
        <p:spPr>
          <a:xfrm>
            <a:off x="343080" y="1552680"/>
            <a:ext cx="8458200" cy="3752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4633920" y="158580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7236000" y="158580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8298000" y="160488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2401920" y="200808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3635280" y="199872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7"/>
          <a:stretch/>
        </p:blipFill>
        <p:spPr>
          <a:xfrm>
            <a:off x="2843280" y="243036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8"/>
          <a:stretch/>
        </p:blipFill>
        <p:spPr>
          <a:xfrm>
            <a:off x="7020000" y="243036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9"/>
          <a:stretch/>
        </p:blipFill>
        <p:spPr>
          <a:xfrm>
            <a:off x="3059280" y="2862360"/>
            <a:ext cx="358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组合 58375"/>
          <p:cNvGrpSpPr/>
          <p:nvPr/>
        </p:nvGrpSpPr>
        <p:grpSpPr>
          <a:xfrm>
            <a:off x="237960" y="1628640"/>
            <a:ext cx="8668080" cy="3168720"/>
            <a:chOff x="237960" y="1628640"/>
            <a:chExt cx="8668080" cy="3168720"/>
          </a:xfrm>
        </p:grpSpPr>
        <p:pic>
          <p:nvPicPr>
            <p:cNvPr id="985" name="图片 58373" descr=""/>
            <p:cNvPicPr/>
            <p:nvPr/>
          </p:nvPicPr>
          <p:blipFill>
            <a:blip r:embed="rId1"/>
            <a:stretch/>
          </p:blipFill>
          <p:spPr>
            <a:xfrm>
              <a:off x="237960" y="1628640"/>
              <a:ext cx="86680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图片 58374" descr=""/>
            <p:cNvPicPr/>
            <p:nvPr/>
          </p:nvPicPr>
          <p:blipFill>
            <a:blip r:embed="rId2"/>
            <a:stretch/>
          </p:blipFill>
          <p:spPr>
            <a:xfrm>
              <a:off x="530280" y="3178080"/>
              <a:ext cx="8362800" cy="16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8244000" y="2233440"/>
            <a:ext cx="358560" cy="2797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8244000" y="322272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8244000" y="365436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6"/>
          <a:stretch/>
        </p:blipFill>
        <p:spPr>
          <a:xfrm>
            <a:off x="8244000" y="403380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7"/>
          <a:stretch/>
        </p:blipFill>
        <p:spPr>
          <a:xfrm>
            <a:off x="8244000" y="4456080"/>
            <a:ext cx="358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图片 57352" descr=""/>
          <p:cNvPicPr/>
          <p:nvPr/>
        </p:nvPicPr>
        <p:blipFill>
          <a:blip r:embed="rId1"/>
          <a:stretch/>
        </p:blipFill>
        <p:spPr>
          <a:xfrm>
            <a:off x="343080" y="1233360"/>
            <a:ext cx="8458200" cy="43912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2"/>
          <a:stretch/>
        </p:blipFill>
        <p:spPr>
          <a:xfrm>
            <a:off x="6208560" y="168120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3"/>
          <a:stretch/>
        </p:blipFill>
        <p:spPr>
          <a:xfrm>
            <a:off x="5364000" y="250200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4"/>
          <a:stretch/>
        </p:blipFill>
        <p:spPr>
          <a:xfrm>
            <a:off x="5076720" y="391464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5"/>
          <a:stretch/>
        </p:blipFill>
        <p:spPr>
          <a:xfrm>
            <a:off x="8172360" y="3870360"/>
            <a:ext cx="358920" cy="279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6"/>
          <a:stretch/>
        </p:blipFill>
        <p:spPr>
          <a:xfrm>
            <a:off x="7923240" y="4941720"/>
            <a:ext cx="35892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56324" descr=""/>
          <p:cNvPicPr/>
          <p:nvPr/>
        </p:nvPicPr>
        <p:blipFill>
          <a:blip r:embed="rId1"/>
          <a:stretch/>
        </p:blipFill>
        <p:spPr>
          <a:xfrm>
            <a:off x="237960" y="1442880"/>
            <a:ext cx="8668080" cy="39722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6578640" y="1484280"/>
            <a:ext cx="358560" cy="2793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3"/>
          <a:stretch/>
        </p:blipFill>
        <p:spPr>
          <a:xfrm>
            <a:off x="1187280" y="4230720"/>
            <a:ext cx="648000" cy="5032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4"/>
          <a:stretch/>
        </p:blipFill>
        <p:spPr>
          <a:xfrm>
            <a:off x="3174840" y="4292640"/>
            <a:ext cx="648000" cy="5032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5"/>
          <a:stretch/>
        </p:blipFill>
        <p:spPr>
          <a:xfrm>
            <a:off x="5219640" y="424008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6"/>
          <a:stretch/>
        </p:blipFill>
        <p:spPr>
          <a:xfrm>
            <a:off x="7361280" y="422100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7"/>
          <a:stretch/>
        </p:blipFill>
        <p:spPr>
          <a:xfrm>
            <a:off x="1052640" y="486900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8"/>
          <a:stretch/>
        </p:blipFill>
        <p:spPr>
          <a:xfrm>
            <a:off x="3040200" y="4869000"/>
            <a:ext cx="955440" cy="503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9"/>
          <a:stretch/>
        </p:blipFill>
        <p:spPr>
          <a:xfrm>
            <a:off x="4984920" y="4941720"/>
            <a:ext cx="955440" cy="503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10"/>
          <a:stretch/>
        </p:blipFill>
        <p:spPr>
          <a:xfrm>
            <a:off x="7145280" y="4941720"/>
            <a:ext cx="9558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55300" descr=""/>
          <p:cNvPicPr/>
          <p:nvPr/>
        </p:nvPicPr>
        <p:blipFill>
          <a:blip r:embed="rId1"/>
          <a:stretch/>
        </p:blipFill>
        <p:spPr>
          <a:xfrm>
            <a:off x="476280" y="2600280"/>
            <a:ext cx="8191440" cy="16574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755640" y="3419640"/>
            <a:ext cx="1728720" cy="279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784080" y="3813120"/>
            <a:ext cx="1729080" cy="279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2771640" y="3395520"/>
            <a:ext cx="1729080" cy="2797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2771640" y="3789360"/>
            <a:ext cx="1729080" cy="279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4716360" y="3395520"/>
            <a:ext cx="1728720" cy="2797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4716360" y="3789360"/>
            <a:ext cx="1728720" cy="2793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6877080" y="3405240"/>
            <a:ext cx="1728720" cy="279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6877080" y="3798720"/>
            <a:ext cx="172872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5427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638920" cy="604836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54277" descr=""/>
          <p:cNvPicPr/>
          <p:nvPr/>
        </p:nvPicPr>
        <p:blipFill>
          <a:blip r:embed="rId2"/>
          <a:stretch/>
        </p:blipFill>
        <p:spPr>
          <a:xfrm>
            <a:off x="1158840" y="1714680"/>
            <a:ext cx="1447920" cy="135252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54278" descr=""/>
          <p:cNvPicPr/>
          <p:nvPr/>
        </p:nvPicPr>
        <p:blipFill>
          <a:blip r:embed="rId3"/>
          <a:stretch/>
        </p:blipFill>
        <p:spPr>
          <a:xfrm>
            <a:off x="3914640" y="1633680"/>
            <a:ext cx="1495440" cy="15048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4279" descr=""/>
          <p:cNvPicPr/>
          <p:nvPr/>
        </p:nvPicPr>
        <p:blipFill>
          <a:blip r:embed="rId4"/>
          <a:stretch/>
        </p:blipFill>
        <p:spPr>
          <a:xfrm>
            <a:off x="7337520" y="1887480"/>
            <a:ext cx="1133280" cy="112392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54280" descr=""/>
          <p:cNvPicPr/>
          <p:nvPr/>
        </p:nvPicPr>
        <p:blipFill>
          <a:blip r:embed="rId5"/>
          <a:stretch/>
        </p:blipFill>
        <p:spPr>
          <a:xfrm>
            <a:off x="2124000" y="4319640"/>
            <a:ext cx="55342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52231" descr=""/>
          <p:cNvPicPr/>
          <p:nvPr/>
        </p:nvPicPr>
        <p:blipFill>
          <a:blip r:embed="rId1"/>
          <a:stretch/>
        </p:blipFill>
        <p:spPr>
          <a:xfrm>
            <a:off x="376200" y="1976400"/>
            <a:ext cx="8391600" cy="29052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52232" descr=""/>
          <p:cNvPicPr/>
          <p:nvPr/>
        </p:nvPicPr>
        <p:blipFill>
          <a:blip r:embed="rId2"/>
          <a:stretch/>
        </p:blipFill>
        <p:spPr>
          <a:xfrm>
            <a:off x="1495440" y="2552760"/>
            <a:ext cx="6514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1:49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